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1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9.wmf" ContentType="image/x-wmf"/>
  <Override PartName="/ppt/media/image14.png" ContentType="image/png"/>
  <Override PartName="/ppt/media/image12.png" ContentType="image/png"/>
  <Override PartName="/ppt/media/image22.png" ContentType="image/png"/>
  <Override PartName="/ppt/media/image4.wmf" ContentType="image/x-wmf"/>
  <Override PartName="/ppt/media/image5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524C-2E77-4B2B-826E-991D6082E4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5C59-7996-4F2D-91AB-56C257EEC7F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4B67-88CC-485D-836D-45210E913DC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1845-101E-4961-B064-71207AE900C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4AB1-08F4-42FE-95DE-8FB8390AA33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8DE5-96EC-4DE4-9C74-E7D6FB82D38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EC40-BC25-473E-AC35-F4F705A1879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D648-D90A-4F18-9C5A-6322E6BA854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97BA-89CF-4175-B1A6-48E1761F7CD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5B13-F5AD-4CC7-A7A3-A79D0F92E24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1D97-81D7-484C-8E43-94257A08689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5409-5A92-4EA0-AC49-E8650773C03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3A1C-E719-44DD-8A97-FE37F7DE3CA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F271-033F-4872-BEFA-16E9C13E6DE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3F81-C123-435D-AB33-BDBF138D261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2933-6CB7-44A1-AA25-065054222C6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06D7-631C-4A7C-9785-6EEBC8FA556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29F5-B2D1-4FC9-87CB-8AD98A024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CFD7-75C7-40D2-9A2E-357B3777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4902-764D-4DA1-AB86-A74BFF4BF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97AB-57D4-40CA-A291-BD9186F5E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675E-5239-48FC-99B6-1B7155FA7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A1E15-76B1-441A-905E-2994AC57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F4671-B844-45CE-807F-2D78DA3D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E6B2-3995-4463-BF65-C67F688C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3523-F559-4118-B3E7-635D5D53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16C7-589E-4FFF-A75F-D3061A64F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20AB-FADC-4C83-A7D8-E9BB8D30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DCC8-C51C-463E-B14F-A8E819D2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0743-98A4-41A2-92FB-B4D1996B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6AF3-2EB0-43D6-8821-33586E35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E691-F164-4AC1-886B-68DAD912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E865-2EF5-412B-A5B0-4997B849A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9AA8-AE0C-4968-8F1C-086D7AE8F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667E5-5137-41DB-A4F3-8EDC2D7EF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E8866-8FAE-4E3F-A914-2D9E5C3A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EC340-D38C-488A-B771-F501A5C4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DA6BB-FD92-4D25-A383-5F9682E5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A925A-DD26-49EC-A13B-3EBB8E90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D9BB-0C0C-484E-868F-DE4C3B12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24F81-4BE7-40EC-AC3D-C9DCE8B5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8D203-FD8E-413E-A93E-51162086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0ED8D-0CD9-402C-9B7D-B6DD244E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2B85E-EE8B-418F-9ED9-35996879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8B617-B0EB-4403-950E-A666A172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2FB2B-3F89-4368-BDB4-0B98E9B06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B4D80-479A-4DD3-94C0-DAA0AFD51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58D09-DAA2-4F4D-990C-504A73E0A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D4179-C7F9-464A-8BC5-6AC88B05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4E01A-1738-4083-A8F9-491E924A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09C4-272B-4F5D-AAD0-CC71239E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1B262-EE52-4782-8AC0-34F0A5C5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4CB44-5D4F-47F9-9688-A29BCD73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BE874-8B80-4920-A207-2ED48DF9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09AFE-A210-46B1-B643-633ED359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2ECE8-BB2C-4504-8698-40F2E3A1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E07DB-5BF7-4AC9-B456-1ED426EC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1733C-F114-4C03-B4C4-641AFD7E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F32CA-F8F4-42DC-B85F-C0793F9AF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D48DD-6AE8-434E-818A-F00180159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337E9-EB85-46BD-8EE3-AA4B1032B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24FD-77DA-4139-BD6C-F20A234C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86E27-DE7D-455A-B42F-01623280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71584-2F23-47DD-B61E-D5802292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691F9-34E8-4C19-A7F8-BDD91226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56E72-EFB7-4EB2-A7BD-A31C0361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62192-14BB-4BA1-92CE-45CDEBC5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2C5D2-825C-445D-AB10-0B3E2C38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DDD07-06D8-4A5C-AC16-9D767ABE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F48EC-109B-4A3E-ABD2-2C9A537C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52DFC-4A84-4C18-97C7-3DD26B7D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73968-2C9A-4A6B-866B-D7BA7B9EC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60CC-C65A-4E30-8176-F59BF00C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C118C-4975-4FFD-A142-FF6C8D3F3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27075-27B9-416B-A538-2A5D2BE28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75C22-4C50-47AE-8E3A-3B55F69E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E9544-45CD-4D1D-AD56-D4331406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24187-1868-495C-B65B-7AF11B4D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1C2B8-90A4-4DF7-BD18-984CB9FAC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EC31E-75C8-4FF8-A75C-DFEF5997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9887B-E933-4624-87CD-8C74F107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00E98-6E7F-40C6-A1A2-CDDBBBB5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7122A-85D2-4EE5-8ACC-7B2A9C82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531C-CC9A-4B40-BFC2-859F2773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283A3-F3BC-455A-939E-F045B32B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C1CDA-6C4C-4A77-8EDC-3E01B80E6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BF847-185A-4723-82F8-27CCFEB15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88795-64E8-421C-AEE9-400CB8E95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19409-FAB0-4F06-B1EA-56EF0584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6D68E-817F-41F9-9766-D87AA021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22290-A972-4CDE-AF3F-F08F37A5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73F7B-6C97-47BE-BBF7-59B9094A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3EBFE-28EC-4516-8484-48498AB9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B261E-4120-471F-8640-FE834FD6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78E7-C345-4C15-81A8-D97F4755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85F11-4BC8-447C-80D2-D0B18CBC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0B878-AC08-4DEF-B598-1A50E118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E4F38-C037-4CD5-AE52-2156BC31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38542-09D8-4A37-A02F-527724F04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32F85-52F9-49C7-8044-848D63D31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E5AD-36E0-450F-9F40-8F4DB9DE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06B1-29D6-4C31-9C48-3EA55C1DA413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6513-C683-41E6-9B70-45EEEB5E944D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BDF6-42F8-4F09-BECA-E828D8514DB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F1C6-C046-4A22-A028-1D95A0439251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B098-A411-4E3E-BB1F-2E4E3CCBEFB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DBA2-0A29-4506-8722-F75C0FCE75C5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4C6F-BA9A-4FA3-85AF-541E5BE37E8F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polycom.com/usa/en/solutions/industry_solutions/education/searchable_database.html" TargetMode="External"/><Relationship Id="rId3" Type="http://schemas.openxmlformats.org/officeDocument/2006/relationships/hyperlink" Target="http://www.cilc.org/c/education/content_provider_programs.aspx" TargetMode="External"/><Relationship Id="rId4" Type="http://schemas.openxmlformats.org/officeDocument/2006/relationships/hyperlink" Target="http://www.twice.cc/fieldtrips.html" TargetMode="External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cilc.org/search/content-provider-program.aspx?id=957" TargetMode="External"/><Relationship Id="rId3" Type="http://schemas.openxmlformats.org/officeDocument/2006/relationships/hyperlink" Target="http://www.cilc.org/search/content-provider-program.aspx?id=106" TargetMode="External"/><Relationship Id="rId4" Type="http://schemas.openxmlformats.org/officeDocument/2006/relationships/hyperlink" Target="http://www.cilc.org/search/content-provider-program.aspx?id=1450" TargetMode="External"/><Relationship Id="rId5" Type="http://schemas.openxmlformats.org/officeDocument/2006/relationships/hyperlink" Target="http://www.cilc.org/search/content-provider-program.aspx?id=472" TargetMode="External"/><Relationship Id="rId6" Type="http://schemas.openxmlformats.org/officeDocument/2006/relationships/hyperlink" Target="http://www.cilc.org/search/content-provider-program.aspx?id=613" TargetMode="External"/><Relationship Id="rId7" Type="http://schemas.openxmlformats.org/officeDocument/2006/relationships/hyperlink" Target="http://www.cilc.org/search/content-provider-program.aspx?id=519" TargetMode="External"/><Relationship Id="rId8" Type="http://schemas.openxmlformats.org/officeDocument/2006/relationships/hyperlink" Target="http://www.cilc.org/search/content-provider-program.aspx?id=1810" TargetMode="External"/><Relationship Id="rId9" Type="http://schemas.openxmlformats.org/officeDocument/2006/relationships/hyperlink" Target="http://www.cilc.org/search/content-provider-program.aspx?id=1635" TargetMode="External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cilc.org/search/content-provider-program.aspx?id=1958" TargetMode="External"/><Relationship Id="rId3" Type="http://schemas.openxmlformats.org/officeDocument/2006/relationships/hyperlink" Target="http://www3.cet.edu/clc/main.html" TargetMode="External"/><Relationship Id="rId4" Type="http://schemas.openxmlformats.org/officeDocument/2006/relationships/hyperlink" Target="http://www.cilc.org/search/content-provider-program.aspx?id=1709" TargetMode="External"/><Relationship Id="rId5" Type="http://schemas.openxmlformats.org/officeDocument/2006/relationships/hyperlink" Target="http://www.nasm.si.edu/education/classroom_videoconf.cfm" TargetMode="External"/><Relationship Id="rId6" Type="http://schemas.openxmlformats.org/officeDocument/2006/relationships/hyperlink" Target="http://www.carnegiemnh.org/doe/programs/DL.htm" TargetMode="External"/><Relationship Id="rId7" Type="http://schemas.openxmlformats.org/officeDocument/2006/relationships/hyperlink" Target="http://dln.nasa.gov/dln/" TargetMode="External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education.baseballhalloffame.org/experience/videoconferences.html" TargetMode="External"/><Relationship Id="rId3" Type="http://schemas.openxmlformats.org/officeDocument/2006/relationships/hyperlink" Target="http://www.profootballhof.com/hall/distancelearning.aspx" TargetMode="External"/><Relationship Id="rId4" Type="http://schemas.openxmlformats.org/officeDocument/2006/relationships/hyperlink" Target="http://americanart.si.edu/education/" TargetMode="External"/><Relationship Id="rId5" Type="http://schemas.openxmlformats.org/officeDocument/2006/relationships/hyperlink" Target="http://www.mountvernon.org/learn/teachers_students/index.cfm/pid/1161/" TargetMode="External"/><Relationship Id="rId6" Type="http://schemas.openxmlformats.org/officeDocument/2006/relationships/hyperlink" Target="http://www.vanderbilt.edu/virtualschool/catalog.htm" TargetMode="External"/><Relationship Id="rId7" Type="http://schemas.openxmlformats.org/officeDocument/2006/relationships/hyperlink" Target="http://projects.twice.cc/" TargetMode="External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cartermuseum.org/teaching/distance-learning" TargetMode="External"/><Relationship Id="rId3" Type="http://schemas.openxmlformats.org/officeDocument/2006/relationships/hyperlink" Target="http://www.cilc.org/search/content-provider-program.aspx?id=1818" TargetMode="External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536400" y="652320"/>
            <a:ext cx="8479080" cy="1597320"/>
          </a:xfrm>
          <a:prstGeom prst="rect">
            <a:avLst/>
          </a:prstGeom>
          <a:ln w="0">
            <a:noFill/>
          </a:ln>
        </p:spPr>
      </p:pic>
      <p:pic>
        <p:nvPicPr>
          <p:cNvPr id="309" name="Subtitle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>
                <a:alpha val="67058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165240" y="268200"/>
            <a:ext cx="7473960" cy="137160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380520" y="1633320"/>
            <a:ext cx="769644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fter the conference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spcBef>
                <a:spcPts val="601"/>
              </a:spcBef>
              <a:buClr>
                <a:srgbClr val="ff388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Have an assignment related to the conference information ready for the student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spcBef>
                <a:spcPts val="601"/>
              </a:spcBef>
              <a:buClr>
                <a:srgbClr val="ff388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rovide the students with a brief evaluation of their experienc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spcBef>
                <a:spcPts val="601"/>
              </a:spcBef>
              <a:buClr>
                <a:srgbClr val="ff388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Review the evaluations and reflect upon the conference’s impact on learning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heel spokes="2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itle 3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729640" cy="14079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457200" y="1722600"/>
            <a:ext cx="3657600" cy="170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Searchable Database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495320" y="1981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Polycom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17bbfd"/>
                </a:solidFill>
                <a:uFillTx/>
                <a:latin typeface="Century Gothic"/>
                <a:hlinkClick r:id="rId3"/>
              </a:rPr>
              <a:t>Center for Interactive Learning and Collaboration (CILC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17bbfd"/>
                </a:solidFill>
                <a:uFillTx/>
                <a:latin typeface="Century Gothic"/>
                <a:hlinkClick r:id="rId4"/>
              </a:rPr>
              <a:t>Two Way Interactive Connection in Education (TWICE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9" name="Picture 2" descr="C:\Users\Mary Wallace\AppData\Local\Microsoft\Windows\Temporary Internet Files\Content.IE5\XX8ZXM1I\MCj04316430000[1].png"/>
          <p:cNvPicPr/>
          <p:nvPr/>
        </p:nvPicPr>
        <p:blipFill>
          <a:blip r:embed="rId5"/>
          <a:stretch/>
        </p:blipFill>
        <p:spPr>
          <a:xfrm>
            <a:off x="1219320" y="3581280"/>
            <a:ext cx="1981080" cy="20574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7" dur="1000" autoRev="1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380880" y="2057400"/>
            <a:ext cx="289584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Math: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504960" y="1722240"/>
            <a:ext cx="5181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Math Connections 6-8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17bbfd"/>
                </a:solidFill>
                <a:uFillTx/>
                <a:latin typeface="Century Gothic"/>
                <a:hlinkClick r:id="rId3"/>
              </a:rPr>
              <a:t>Ani-Math K-5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17bbfd"/>
                </a:solidFill>
                <a:uFillTx/>
                <a:latin typeface="Century Gothic"/>
                <a:hlinkClick r:id="rId4"/>
              </a:rPr>
              <a:t>Mozart Math 2-4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17bbfd"/>
                </a:solidFill>
                <a:uFillTx/>
                <a:latin typeface="Century Gothic"/>
                <a:hlinkClick r:id="rId5"/>
              </a:rPr>
              <a:t>Math &amp; Music 6-8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17bbfd"/>
                </a:solidFill>
                <a:uFillTx/>
                <a:latin typeface="Century Gothic"/>
                <a:hlinkClick r:id="rId6"/>
              </a:rPr>
              <a:t>Batter Up 4-12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17bbfd"/>
                </a:solidFill>
                <a:uFillTx/>
                <a:latin typeface="Century Gothic"/>
                <a:hlinkClick r:id="rId7"/>
              </a:rPr>
              <a:t>Math Connections in Art (Gridding) 6-8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17bbfd"/>
                </a:solidFill>
                <a:uFillTx/>
                <a:latin typeface="Century Gothic"/>
                <a:hlinkClick r:id="rId8"/>
              </a:rPr>
              <a:t>Mathematica-Math in Society 6-12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17bbfd"/>
                </a:solidFill>
                <a:uFillTx/>
                <a:latin typeface="Century Gothic"/>
                <a:hlinkClick r:id="rId9"/>
              </a:rPr>
              <a:t>What Good is a Parabola Anyway? 8-12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3" name="Picture 3" descr="C:\Users\Mary Wallace\AppData\Local\Microsoft\Windows\Temporary Internet Files\Content.IE5\T98HM1K2\MCj04361510000[1].wmf"/>
          <p:cNvPicPr/>
          <p:nvPr/>
        </p:nvPicPr>
        <p:blipFill>
          <a:blip r:embed="rId10"/>
          <a:stretch/>
        </p:blipFill>
        <p:spPr>
          <a:xfrm>
            <a:off x="914400" y="3276720"/>
            <a:ext cx="1857240" cy="164124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456840" y="1722240"/>
            <a:ext cx="304812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Science: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657600" y="1722600"/>
            <a:ext cx="50292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Passport to Planet Earth K-5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7bbfd"/>
                </a:solidFill>
                <a:uFillTx/>
                <a:latin typeface="Century Gothic"/>
                <a:hlinkClick r:id="rId3"/>
              </a:rPr>
              <a:t>Challenger Learning Center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7bbfd"/>
                </a:solidFill>
                <a:uFillTx/>
                <a:latin typeface="Century Gothic"/>
                <a:hlinkClick r:id="rId4"/>
              </a:rPr>
              <a:t>Can a Shoebox Fly? FREE 4-12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7bbfd"/>
                </a:solidFill>
                <a:uFillTx/>
                <a:latin typeface="Century Gothic"/>
                <a:hlinkClick r:id="rId5"/>
              </a:rPr>
              <a:t>National Air &amp; Space Museum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Smithsonian Environmental Research Center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COSI (Center of Science &amp; Industry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7bbfd"/>
                </a:solidFill>
                <a:uFillTx/>
                <a:latin typeface="Century Gothic"/>
                <a:hlinkClick r:id="rId6"/>
              </a:rPr>
              <a:t>Carnegie Museum of Natural History K-12 FRE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7bbfd"/>
                </a:solidFill>
                <a:uFillTx/>
                <a:latin typeface="Century Gothic"/>
                <a:hlinkClick r:id="rId7"/>
              </a:rPr>
              <a:t>NASA FRE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7" name="Picture 3" descr="C:\Users\Mary Wallace\AppData\Local\Microsoft\Windows\Temporary Internet Files\Content.IE5\XX8ZXM1I\MCj03985510000[1].wmf"/>
          <p:cNvPicPr/>
          <p:nvPr/>
        </p:nvPicPr>
        <p:blipFill>
          <a:blip r:embed="rId8"/>
          <a:stretch/>
        </p:blipFill>
        <p:spPr>
          <a:xfrm>
            <a:off x="1295280" y="2895480"/>
            <a:ext cx="1362240" cy="18637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7200" y="1722600"/>
            <a:ext cx="32004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entury Gothic"/>
              </a:rPr>
              <a:t>History:</a:t>
            </a:r>
            <a:endParaRPr b="0" lang="en-US" sz="3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885840" y="1722600"/>
            <a:ext cx="4800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National Baseball Hall of Fam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7bbfd"/>
                </a:solidFill>
                <a:uFillTx/>
                <a:latin typeface="Century Gothic"/>
                <a:hlinkClick r:id="rId3"/>
              </a:rPr>
              <a:t>Football Hall of Fam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7bbfd"/>
                </a:solidFill>
                <a:uFillTx/>
                <a:latin typeface="Century Gothic"/>
                <a:hlinkClick r:id="rId4"/>
              </a:rPr>
              <a:t>A House Divided FREE 5-12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7bbfd"/>
                </a:solidFill>
                <a:uFillTx/>
                <a:latin typeface="Century Gothic"/>
                <a:hlinkClick r:id="rId5"/>
              </a:rPr>
              <a:t>Mt. Vernon Estate &amp; Garden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7bbfd"/>
                </a:solidFill>
                <a:uFillTx/>
                <a:latin typeface="Century Gothic"/>
                <a:hlinkClick r:id="rId6"/>
              </a:rPr>
              <a:t>Virtual School @ Vanderbilt Universit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7bbfd"/>
                </a:solidFill>
                <a:uFillTx/>
                <a:latin typeface="Century Gothic"/>
                <a:hlinkClick r:id="rId7"/>
              </a:rPr>
              <a:t>History Quest &amp; Mystery Ques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1" name="Picture 3" descr="C:\Users\Mary Wallace\AppData\Local\Microsoft\Windows\Temporary Internet Files\Content.IE5\Y9Y83ON7\MCj01498480000[1].wmf"/>
          <p:cNvPicPr/>
          <p:nvPr/>
        </p:nvPicPr>
        <p:blipFill>
          <a:blip r:embed="rId8"/>
          <a:stretch/>
        </p:blipFill>
        <p:spPr>
          <a:xfrm>
            <a:off x="685800" y="2590920"/>
            <a:ext cx="2629080" cy="17524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456840" y="1600200"/>
            <a:ext cx="335268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entury Gothic"/>
              </a:rPr>
              <a:t>Language Arts:</a:t>
            </a: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114800" y="1676160"/>
            <a:ext cx="4572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Metaphorically Speaking 6-12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 u="sng">
                <a:solidFill>
                  <a:srgbClr val="17bbfd"/>
                </a:solidFill>
                <a:uFillTx/>
                <a:latin typeface="Century Gothic"/>
                <a:hlinkClick r:id="rId3"/>
              </a:rPr>
              <a:t>Flying Fingers (Adora Svitak) 4-12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Prose &amp; Poetry at the Primary Level 2-5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Pieces of Other Places (The Story Peddlers) 3-6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Edgar Allen Poe 8-12 (Center for Puppetry Arts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5" name="Picture 2" descr="C:\Users\Mary Wallace\AppData\Local\Microsoft\Windows\Temporary Internet Files\Content.IE5\9RXCMCMU\MCj04326650000[1].png"/>
          <p:cNvPicPr/>
          <p:nvPr/>
        </p:nvPicPr>
        <p:blipFill>
          <a:blip r:embed="rId4"/>
          <a:stretch/>
        </p:blipFill>
        <p:spPr>
          <a:xfrm>
            <a:off x="1219320" y="251460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Title 4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Century Gothic"/>
              </a:rPr>
              <a:t>Wise Gee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Century Gothic"/>
              </a:rPr>
              <a:t>Wikipedi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Century Gothic"/>
              </a:rPr>
              <a:t>Cooperating School Distric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Century Gothic"/>
              </a:rPr>
              <a:t>Center for Interactive Learning and Collaborati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3885840" y="17226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It’s a communication technology that integrates video &amp; voice to connect remote users with each other as if they were in the same room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Users see each other in real time allowing for natural conversation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2" name="Picture 2" descr="C:\Users\Mary Wallace\AppData\Local\Microsoft\Windows\Temporary Internet Files\Content.IE5\Y9Y83ON7\MCj02374910000[1].wmf"/>
          <p:cNvPicPr/>
          <p:nvPr/>
        </p:nvPicPr>
        <p:blipFill>
          <a:blip r:embed="rId2"/>
          <a:stretch/>
        </p:blipFill>
        <p:spPr>
          <a:xfrm>
            <a:off x="484200" y="2133720"/>
            <a:ext cx="3139920" cy="34290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aves time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aves money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Allows for visits to places that would be impossible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Brings students from remote or isolated locations together with other students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5" name="Picture 4" descr="C:\Users\Mary Wallace\AppData\Local\Microsoft\Windows\Temporary Internet Files\Content.IE5\9RXCMCMU\MCj02321100000[1].wmf"/>
          <p:cNvPicPr/>
          <p:nvPr/>
        </p:nvPicPr>
        <p:blipFill>
          <a:blip r:embed="rId2"/>
          <a:stretch/>
        </p:blipFill>
        <p:spPr>
          <a:xfrm>
            <a:off x="1523880" y="2590920"/>
            <a:ext cx="1981440" cy="261144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heel spokes="2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195120" y="262080"/>
            <a:ext cx="8498160" cy="14079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657240" y="17524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Video input: video camera or webcam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Video output: computer monitor, television, or projector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Audio input: microphon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Audio output: speaker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Data Transfer: LAN or Interne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0" name="Picture 2" descr="C:\Users\Mary Wallace\AppData\Local\Microsoft\Windows\Temporary Internet Files\Content.IE5\XX8ZXM1I\MCj03577670000[1].wmf"/>
          <p:cNvPicPr/>
          <p:nvPr/>
        </p:nvPicPr>
        <p:blipFill>
          <a:blip r:embed="rId2"/>
          <a:stretch/>
        </p:blipFill>
        <p:spPr>
          <a:xfrm>
            <a:off x="533520" y="1447920"/>
            <a:ext cx="1131840" cy="16002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" descr="C:\Users\Mary Wallace\AppData\Local\Microsoft\Windows\Temporary Internet Files\Content.IE5\Y9Y83ON7\MCj03121320000[1].wmf"/>
          <p:cNvPicPr/>
          <p:nvPr/>
        </p:nvPicPr>
        <p:blipFill>
          <a:blip r:embed="rId3"/>
          <a:stretch/>
        </p:blipFill>
        <p:spPr>
          <a:xfrm>
            <a:off x="2209680" y="2514600"/>
            <a:ext cx="1086120" cy="15238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C:\Users\Mary Wallace\AppData\Local\Microsoft\Windows\Temporary Internet Files\Content.IE5\XX8ZXM1I\MCj04123380000[1].wmf"/>
          <p:cNvPicPr/>
          <p:nvPr/>
        </p:nvPicPr>
        <p:blipFill>
          <a:blip r:embed="rId4"/>
          <a:stretch/>
        </p:blipFill>
        <p:spPr>
          <a:xfrm>
            <a:off x="1600200" y="4800600"/>
            <a:ext cx="1825560" cy="13525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" descr="C:\Users\Mary Wallace\AppData\Local\Microsoft\Windows\Temporary Internet Files\Content.IE5\9RXCMCMU\MCj04316120000[1].png"/>
          <p:cNvPicPr/>
          <p:nvPr/>
        </p:nvPicPr>
        <p:blipFill>
          <a:blip r:embed="rId5"/>
          <a:stretch/>
        </p:blipFill>
        <p:spPr>
          <a:xfrm>
            <a:off x="228600" y="32767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>
                <a:alpha val="67058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165240" y="237960"/>
            <a:ext cx="7461000" cy="14018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380520" y="1633680"/>
            <a:ext cx="678204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1. Before starting ask yourself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spcBef>
                <a:spcPts val="499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Will VC really benefit my project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spcBef>
                <a:spcPts val="499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ould the project be done using another medium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spcBef>
                <a:spcPts val="499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m I using VC just because it’s really cool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2. Think of a project that would benefit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3. Find partners to participat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spcBef>
                <a:spcPts val="499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Depending on the content you may want to invite      additional classrooms or an expert provider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heel spokes="2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>
                <a:alpha val="67058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1" descr=""/>
          <p:cNvPicPr/>
          <p:nvPr/>
        </p:nvPicPr>
        <p:blipFill>
          <a:blip r:embed="rId1"/>
          <a:stretch/>
        </p:blipFill>
        <p:spPr>
          <a:xfrm>
            <a:off x="165240" y="268200"/>
            <a:ext cx="7461000" cy="137160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380520" y="1633680"/>
            <a:ext cx="723924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4. Share information with the provider via the web or email – get as much contact information as possible!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5. Set a date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Know the dates you want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8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Work well in advance (3 to 4 months)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6. Find out if you must schedule through a bridge or if the connection is point to point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8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Bridges must be used when handling mixed protocols (H.320 ISDN &amp; H.323 IP)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8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Multi Point Control Units are bridges that can connect calls from several sources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heel spokes="2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>
                <a:alpha val="67058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165240" y="268200"/>
            <a:ext cx="7461000" cy="13716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380880" y="163368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7. If working with other schools, be sure to include a project timeline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If they are sharing they need time to prepare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8. Before conference day, do a test connection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Be sure to schedule it with all participants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9. On conference day, set up the equipment EARLY</a:t>
            </a: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An agenda for start and stop time should be established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When working collaboratively, decide who is responsible for each part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10. Be prepared for the worst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Have copies of all materials in case of equipment failure.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Have phone numbers available for all participants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heel spokes="2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>
                <a:alpha val="67058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165240" y="268200"/>
            <a:ext cx="7473960" cy="137160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380880" y="1633320"/>
            <a:ext cx="78487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Before the conference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t up an easy point to point conference with another class and have students practice introducing themselves and speaking loudly &amp; clearly into the microphon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Have students come up with questions and email them to the provider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Remind students of the sensitivity of the microphone and of things they should and shouldn’t say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heel spokes="2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>
                <a:alpha val="67058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itle 1" descr=""/>
          <p:cNvPicPr/>
          <p:nvPr/>
        </p:nvPicPr>
        <p:blipFill>
          <a:blip r:embed="rId1"/>
          <a:stretch/>
        </p:blipFill>
        <p:spPr>
          <a:xfrm>
            <a:off x="165240" y="268200"/>
            <a:ext cx="7473960" cy="137160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380520" y="1633320"/>
            <a:ext cx="769644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uring the conference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Have students seated and ready at least 10 minutes before the start time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If a seating chart was not given to the provider, have nametags placed in visible locations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Decide upon a procedure for asking questions with the provider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4000">
              <a:lnSpc>
                <a:spcPct val="90000"/>
              </a:lnSpc>
              <a:spcBef>
                <a:spcPts val="550"/>
              </a:spcBef>
              <a:buClr>
                <a:srgbClr val="ff388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Mute your microphone for the class until they need to speak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5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heel spokes="2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5T22:49:09Z</dcterms:created>
  <dc:creator>Mary Wallace</dc:creator>
  <dc:description/>
  <dc:language>en-US</dc:language>
  <cp:lastModifiedBy>Mary Wallace</cp:lastModifiedBy>
  <dcterms:modified xsi:type="dcterms:W3CDTF">2009-07-19T02:30:55Z</dcterms:modified>
  <cp:revision>22</cp:revision>
  <dc:subject/>
  <dc:title>Slide 1</dc:title>
</cp:coreProperties>
</file>